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8104-AE8B-49C4-B6FA-031DBB4F0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6456-D9FB-4EFB-8AFD-01718A65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6001-EF11-4549-B1FD-83AB878BF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7DE0-8CD3-48A6-B796-619F552BE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A784-030A-447A-AF2B-13D32CAD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4862-CCA8-4228-985C-B622593F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4041-01CE-485B-9C94-93DC00A0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3D4F-D9CF-48EB-BFA9-455D2A22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D569-CC4F-4358-B00E-28076EBF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01D9-B7CB-4DDD-99D6-EFFBB9FD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66FF-40F3-409D-ACE4-FFF046C2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896F-597F-4689-B7C3-06985151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632E-1F2E-434F-B000-BA4E61C0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9A5D-AE47-447D-AB90-AEDB4EE3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BA42-BF68-42AA-B1D1-E3D739F1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2AB3-6E21-4142-ABBC-889432B7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C5A3-84A7-44A5-B1F1-16FD7E93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F420-2179-43B8-81F7-A17992B4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59B1-F4D3-475C-90FB-E696D45A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2FD9-B158-4251-A017-B7F732A5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123A-891C-415F-BE73-5566119C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4924-088A-452E-A132-DC59858A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331A-5FEA-4C1E-B998-DDBC5F67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6B5A-5C0B-4F8F-AC89-FE593E54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B969-95EE-4FAA-82CE-771A367CB3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73E2-A8A2-4515-9B7F-7FD2C79CE9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5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8880" y="1989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Bookman Old Style"/>
              </a:rPr>
              <a:t>Класс насеком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4" descr="D:\ТАША\картинки\бабочки , насекомые\animated_fly.gif"/>
          <p:cNvPicPr/>
          <p:nvPr/>
        </p:nvPicPr>
        <p:blipFill>
          <a:blip r:embed="rId1"/>
          <a:stretch/>
        </p:blipFill>
        <p:spPr>
          <a:xfrm>
            <a:off x="5796000" y="3860640"/>
            <a:ext cx="2241360" cy="2241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D:\ТАША\картинки\бабочки , насекомые\beeсм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16000" y="947880"/>
            <a:ext cx="151128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38512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b7"/>
                </a:solidFill>
                <a:latin typeface="GungsuhChe"/>
              </a:rPr>
              <a:t>Это самый многочисленный класс животных на Земле. Насекомые приспособились к самым различным среда обитания; единственные представители беспозвоночных животных способных летать!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16000" y="4508640"/>
            <a:ext cx="316872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b9f2fd"/>
                </a:solidFill>
                <a:latin typeface="GungsuhChe"/>
              </a:rPr>
              <a:t>Отличаются ли «шестиногие» от пауков?</a:t>
            </a: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02920" y="2565360"/>
            <a:ext cx="678204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тественно! Паука знают все и стоит только представить себе его, вспоминаются четыре пары па­учьих ног. Такое число ходильных ног характерно для всех паукообразных — этим они отличаются от «шестиногих» насекомы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8880" y="1700280"/>
            <a:ext cx="8385120" cy="27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Строение насекомог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Picture 2" descr="D:\ТАША\картинки\бабочки , насекомые\C14-50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435640" y="3716280"/>
            <a:ext cx="3429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00000" y="513000"/>
            <a:ext cx="7189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оль насекомых в приро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асекомые играют большую роль в природе, ведь они занимают 80% все животных на планете. Более чем 75% растений опыляется насекомыми. Растения привлекают их своими формами, ароматами, нектаром, пыльцой. 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почвообразовании насекомые тоже участвуют, они разрыхляют почву. 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Также насекомые являются санитарами, они очищают водоемы – питаются гниющими органическими осадками. Многих из санитаров вы знаете: мухи-мясоедки, мухи-навозницы, падальщики, могильщики, жуки-навозники и другие. 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ажную роль насекомые играют в пищевой цепочке. Ими питаются ящерицы (10-20 особей в день), лягушки (до 95% от дневного рациона), млекопитающие (кроты, муравьеды и др.), рыбы. 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44080"/>
            <a:ext cx="8373960" cy="620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ungsuhChe"/>
              </a:rPr>
              <a:t>Роль насекомых в жизни человека</a:t>
            </a:r>
            <a:br>
              <a:rPr sz="2800"/>
            </a:br>
            <a:r>
              <a:rPr b="0" i="1" lang="en-US" sz="2800" spc="-1" strike="noStrike">
                <a:solidFill>
                  <a:srgbClr val="ffffb7"/>
                </a:solidFill>
                <a:latin typeface="GungsuhChe"/>
              </a:rPr>
              <a:t>Насекомые приносят как пользу так и вред человеку. Некоторые насекомые переносят болезни (комары, блохи, москиты, клещи). </a:t>
            </a:r>
            <a:br>
              <a:rPr sz="2800"/>
            </a:br>
            <a:r>
              <a:rPr b="0" i="1" lang="en-US" sz="2800" spc="-1" strike="noStrike">
                <a:solidFill>
                  <a:srgbClr val="ffffb7"/>
                </a:solidFill>
                <a:latin typeface="GungsuhChe"/>
              </a:rPr>
              <a:t>Например комары переносят малярию, желтую лихорадку и лихорадку денге. Блохи переносят туляремию и чуму. Москиты переносят лейшманиоз, а клещи – клещевой энцефалит. </a:t>
            </a:r>
            <a:br>
              <a:rPr sz="2800"/>
            </a:br>
            <a:r>
              <a:rPr b="0" i="1" lang="en-US" sz="2800" spc="-1" strike="noStrike">
                <a:solidFill>
                  <a:srgbClr val="ffffb7"/>
                </a:solidFill>
                <a:latin typeface="GungsuhChe"/>
              </a:rPr>
              <a:t>Но не все насекомые вредят, некоторые просто могут насаждать человеку. </a:t>
            </a:r>
            <a:br>
              <a:rPr sz="2800"/>
            </a:br>
            <a:r>
              <a:rPr b="0" i="1" lang="en-US" sz="2800" spc="-1" strike="noStrike">
                <a:solidFill>
                  <a:srgbClr val="ffffb7"/>
                </a:solidFill>
                <a:latin typeface="GungsuhChe"/>
              </a:rPr>
              <a:t>Пользу к примеру приносят пчелы, ведь благодаря им возможно производство меда.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385120" cy="34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b7"/>
                </a:solidFill>
                <a:latin typeface="Arial Black"/>
              </a:rPr>
              <a:t>При изучении данной темы мы, действительно узнаем, что Класс Насекомые занимает самую большую численность фауны нашей планеты.</a:t>
            </a:r>
            <a:br>
              <a:rPr sz="2800"/>
            </a:br>
            <a:r>
              <a:rPr b="0" i="1" lang="en-US" sz="2800" spc="-1" strike="noStrike">
                <a:solidFill>
                  <a:srgbClr val="ffffb7"/>
                </a:solidFill>
                <a:latin typeface="Arial Black"/>
              </a:rPr>
              <a:t>Познакомились с морфологией насекомого, а также выяснили их роль в природе и в жизни человека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12000" y="4751280"/>
            <a:ext cx="2869920" cy="1914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D:\ТАША\картинки\бабочки , насекомые\animated_ladybug.gif"/>
          <p:cNvPicPr/>
          <p:nvPr/>
        </p:nvPicPr>
        <p:blipFill>
          <a:blip r:embed="rId2"/>
          <a:stretch/>
        </p:blipFill>
        <p:spPr>
          <a:xfrm>
            <a:off x="611280" y="260280"/>
            <a:ext cx="137628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21:25:32Z</dcterms:created>
  <dc:creator>надюша</dc:creator>
  <dc:description/>
  <dc:language>en-US</dc:language>
  <cp:lastModifiedBy>надюша</cp:lastModifiedBy>
  <dcterms:modified xsi:type="dcterms:W3CDTF">2011-05-10T22:23:22Z</dcterms:modified>
  <cp:revision>2</cp:revision>
  <dc:subject/>
  <dc:title>Класс насекомые</dc:title>
</cp:coreProperties>
</file>